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wmf" ContentType="image/x-wmf"/>
  <Override PartName="/ppt/media/image6.png" ContentType="image/png"/>
  <Override PartName="/ppt/media/image31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791-45A0-438E-AAAB-8C787E49579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kinxun.com.hk/big5/tsw.php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craiglotter.co.za/2010/04/19/how-to-disable-sorting-on-a-column-in-jquery-datatables-plugin/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可在此介紹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作為一個社福機構，透過環境及自然保育基金的公開甄選程序，被揀選管理和營運環保園塑膠資源再生中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環保園塑膠資源再生中心位於屯門環保園，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正式啟用。五萬呎的環保園廠房包括人手將塑膠分類、去除雜質、以大型機械清洗、切粒、風乾等工序，將回收的塑膠製成膠片或膠粒原材料，出售以讓塑膠循環回收再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該中心高級技術主任鄺炳希先生表示，中心目標每日處理約二十噸的回收塑膠，當中包括日常家居源頭分類計劃屋苑的膠袋、膠樽及其他塑膠用品。另外，該中心亦與其他機構合作，派出車隊四出進行回收工作，積極推動回收塑膠再造。中心旨在把廢塑膠回收並轉化為可銷售的高增值再生物料，減輕堆填區的負荷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中心將大部份人力資源放到將塑膠分類及去除雜質（如招紙和膠蓋），希望大家進行源頭分類的同時，更將放入回收箱的物品分類及清洗，以減少回收工序以達到環保的目的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greensense.org.hk/plasticbag/subpage1k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prrc.yot.org.hk/?page_id=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A95-6A15-450C-9082-33F427585AB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81E7-B9EB-403C-A9D5-DFA487E7F77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再造　妙筆生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7EAC-5B81-427A-BEDC-FE1F6346296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3324-B0A5-4667-8932-5F8CF7ACA1D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DB7-95B9-470D-897E-18B183C03FD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nxun.com.hk/big5/tsw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A5CE-4FF8-454A-B261-655CFA3DFCE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raiglotter.co.za/2010/04/19/how-to-disable-sorting-on-a-column-in-jquery-datatables-plugi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9BA0-86C9-43D3-BE67-E8E89212B1B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D11-08AE-4527-96AF-3D11A80D282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5BAF-F28F-480D-B4AB-6FCC78AC6B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拿出預先準備了的塑膠製品（例如膠袋、雷射唱片、膠飲品樽等）和７個號碼袋出來，請學生把塑膠製品投進正確的號碼袋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宜在這裡指出香港沒有分編碼回收塑膠的設施，不同類型的塑膠會被掉進同一個塑膠回收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898-622A-4980-A46E-316A1AB6472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在這裡展示兩袋膠樽實物（一袋有樽蓋、招紙和污漬；一袋則沒有）。請學生分成四人小組，討論回收人員較喜歡哪一袋膠樽，並舉手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向每組派發上述兩袋不同的膠樽，請每組學生合作動手把回收人員不喜歡的那袋膠樽弄至他們喜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提問每組學生為膠樽做了些甚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feature=player_embedded&amp;v=HQhu6_k_aLY#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BF2-7DA6-455D-A5F2-77224668CC8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工作紙五，請學生寫出兩袋膠樽的不同之處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5727-960B-45A2-8826-BDEC785EAD0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請學生猜猜為甚麼回收人員較喜歡另一袋膠樽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輕回收人員的工作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時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案解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清洗工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受污染的塑膠廢物，會減低再造塑料的市場價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樹脂種類的塑膠廢物混雜，會增力再加工的困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請學生承諾：日後在將膠樽投進回收桶前，會洗淨膠樽並移除樽蓋和招紙，為地球盡一分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608B-6960-4F41-95FA-4AA16D2881F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C059C-E5DE-4CF5-AFB5-942E99F5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6FC6A-7A1B-49C8-99C4-344F144E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8490E-A8F8-4B7C-9D1A-A10B258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4D74E-C5DE-4218-B712-5CB4298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5FF55-A64B-401E-A1DC-A143E551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4D8FC-F971-4823-8A3A-BB7C825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14056-FD5E-4BF2-AC4D-1573BD9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98F11-F220-45A0-9D0D-0DBE4241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44671-1664-4781-93F3-800BBB8F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BE4AF-4EE0-4054-977E-B6AB31A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50F36-B4C1-45C6-B821-53F48AD1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E23AE-1D37-49BD-A2A3-F793555F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F49F6-EF53-45E9-9748-8B795619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14C98-34C7-4B64-B85A-74154DD1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30B1D-DDD4-4F76-BDA7-0C896B4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0DEB1-C856-41BF-8F5F-87EE8F1D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AE7A1-0712-45B3-8BE8-ADA130D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0F11C-65B3-42FD-AA28-8C369E8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0C07A-9453-4EB1-A708-E092077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7CCCA-03BA-4B0A-ABB5-D440A67A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BB1A2-4E06-4E09-809D-EC80B1B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96675-F928-463D-8F07-F66F2B50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679EB-2459-40AD-94F8-7035A268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1B288-AE4B-4C27-9B16-5D04DF58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4504-9C68-4849-B44C-9266AC43D9CC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7C83-BACB-43B8-879D-0EEC1591DC9E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438-4FCA-4E5B-BD2D-3D29AABF2058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E737-C028-4015-86F8-86092E42D4B0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D46C-8179-4F5E-88BE-88864613BD93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80A4-1DAC-4D1F-AFFE-C915B0D60AE5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greensense.org.hk/plasticbag/subpage1d.ph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d.ph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五： 循環再造的旅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5" name="Picture 4" descr="D:\Temp\Temporary Internet Files\Content.IE5\HDXSWTAK\MC900142245[1].wmf"/>
          <p:cNvPicPr/>
          <p:nvPr/>
        </p:nvPicPr>
        <p:blipFill>
          <a:blip r:embed="rId1"/>
          <a:stretch/>
        </p:blipFill>
        <p:spPr>
          <a:xfrm rot="404400">
            <a:off x="6443640" y="3212640"/>
            <a:ext cx="1944720" cy="18766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682-0C92-4564-BC55-2EB525538E4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58920" y="3645000"/>
            <a:ext cx="518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觀看短片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仁愛堂環保園塑膠資源再生中心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回收再造過程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觸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新細明體"/>
                <a:ea typeface="新細明體"/>
                <a:hlinkClick r:id="rId1" action="ppaction://hlinksldjump"/>
              </a:rPr>
              <a:t>http://www.youtube.com/watch?feature=player_embedded&amp;v=HQhu6_k_aLY#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圖片 7" descr=""/>
          <p:cNvPicPr/>
          <p:nvPr/>
        </p:nvPicPr>
        <p:blipFill>
          <a:blip r:embed="rId2"/>
          <a:stretch/>
        </p:blipFill>
        <p:spPr>
          <a:xfrm>
            <a:off x="7093080" y="1125360"/>
            <a:ext cx="1388880" cy="4123080"/>
          </a:xfrm>
          <a:prstGeom prst="rect">
            <a:avLst/>
          </a:prstGeom>
          <a:ln w="0">
            <a:noFill/>
          </a:ln>
        </p:spPr>
      </p:pic>
      <p:sp>
        <p:nvSpPr>
          <p:cNvPr id="244" name="圓角矩形圖說文字 4"/>
          <p:cNvSpPr/>
          <p:nvPr/>
        </p:nvSpPr>
        <p:spPr>
          <a:xfrm>
            <a:off x="539640" y="620640"/>
            <a:ext cx="6193080" cy="2808360"/>
          </a:xfrm>
          <a:prstGeom prst="wedgeRoundRectCallout">
            <a:avLst>
              <a:gd name="adj1" fmla="val 50564"/>
              <a:gd name="adj2" fmla="val 64879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循環再造的過程真的很漫長。小朋友，你能說出整個循環再造的過程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DF4F-CBEA-4338-86DE-140788303DD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一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不同的塑膠分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5"/>
          <a:stretch/>
        </p:blipFill>
        <p:spPr>
          <a:xfrm>
            <a:off x="1979640" y="1773360"/>
            <a:ext cx="4968720" cy="439560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5"/>
          <p:cNvSpPr/>
          <p:nvPr/>
        </p:nvSpPr>
        <p:spPr>
          <a:xfrm>
            <a:off x="766764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2C3E-978C-4AC6-8410-200CFF7FE61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二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樽蓋、招紙移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5"/>
          <a:stretch/>
        </p:blipFill>
        <p:spPr>
          <a:xfrm>
            <a:off x="1763640" y="1989000"/>
            <a:ext cx="5666040" cy="40608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5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F66A-EB9A-4A95-A9E6-0EA0D147614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三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送到打碎機變成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250920" y="206064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DE1-11BC-4059-84AE-763E2538DD8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四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碎片清洗和風乾，變成清潔的塑膠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lesson 5 - step 4.JPG"/>
          <p:cNvPicPr/>
          <p:nvPr/>
        </p:nvPicPr>
        <p:blipFill>
          <a:blip r:embed="rId5"/>
          <a:stretch/>
        </p:blipFill>
        <p:spPr>
          <a:xfrm>
            <a:off x="1042920" y="1844640"/>
            <a:ext cx="7129440" cy="46800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42F-D303-41DD-82DB-6D99A8288B4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五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5"/>
          <a:srcRect l="0" t="0" r="0" b="5850"/>
          <a:stretch/>
        </p:blipFill>
        <p:spPr>
          <a:xfrm>
            <a:off x="1042920" y="1916280"/>
            <a:ext cx="7129440" cy="4608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清潔的塑膠碎片熱溶，冷卻後切粒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FD5-AF73-4E1C-A470-E9A2346FF45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六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變成膠粒後，便再用來製造其他塑膠產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5"/>
          <a:srcRect l="0" t="27472" r="42121" b="23692"/>
          <a:stretch/>
        </p:blipFill>
        <p:spPr>
          <a:xfrm>
            <a:off x="1908000" y="270828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user\AppData\Local\Microsoft\Windows\Temporary Internet Files\Content.IE5\0YFQWHE2\MC900434859[1].png"/>
          <p:cNvPicPr/>
          <p:nvPr/>
        </p:nvPicPr>
        <p:blipFill>
          <a:blip r:embed="rId6"/>
          <a:stretch/>
        </p:blipFill>
        <p:spPr>
          <a:xfrm>
            <a:off x="5018040" y="2492280"/>
            <a:ext cx="2793960" cy="2795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7"/>
          <a:stretch/>
        </p:blipFill>
        <p:spPr>
          <a:xfrm>
            <a:off x="5292720" y="1763640"/>
            <a:ext cx="2087640" cy="461808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7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0FF-C32C-4832-A280-B13C85E4237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87" name="內容版面配置區 4" descr="plastic2.gif"/>
          <p:cNvPicPr/>
          <p:nvPr/>
        </p:nvPicPr>
        <p:blipFill>
          <a:blip r:embed="rId1"/>
          <a:stretch/>
        </p:blipFill>
        <p:spPr>
          <a:xfrm>
            <a:off x="539640" y="4027320"/>
            <a:ext cx="8229600" cy="2497320"/>
          </a:xfrm>
          <a:prstGeom prst="rect">
            <a:avLst/>
          </a:prstGeom>
          <a:ln w="0">
            <a:noFill/>
          </a:ln>
        </p:spPr>
      </p:pic>
      <p:sp>
        <p:nvSpPr>
          <p:cNvPr id="288" name="圓角矩形圖說文字 3"/>
          <p:cNvSpPr/>
          <p:nvPr/>
        </p:nvSpPr>
        <p:spPr>
          <a:xfrm>
            <a:off x="971640" y="549360"/>
            <a:ext cx="7272360" cy="3384360"/>
          </a:xfrm>
          <a:prstGeom prst="wedgeRoundRectCallout">
            <a:avLst>
              <a:gd name="adj1" fmla="val -19597"/>
              <a:gd name="adj2" fmla="val 69884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為保護生態環境，我們應該多做一步，做到「環保四用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Redu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減少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Reus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物盡其用塑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Recycl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循環再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 Repla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替代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DA96-FA4A-490E-A25B-ECACE92EDFF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ee7f2">
                <a:alpha val="7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A83-37DE-484A-A1ED-49B4F469ECB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D:\Temp\Temporary Internet Files\Content.IE5\HDXSWTAK\MC900439141[1].png"/>
          <p:cNvPicPr/>
          <p:nvPr/>
        </p:nvPicPr>
        <p:blipFill>
          <a:blip r:embed="rId1"/>
          <a:stretch/>
        </p:blipFill>
        <p:spPr>
          <a:xfrm>
            <a:off x="-6480" y="19080"/>
            <a:ext cx="9156960" cy="6869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Heart 2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55640" y="907920"/>
            <a:ext cx="7561440" cy="5329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7"/>
          <p:cNvSpPr/>
          <p:nvPr/>
        </p:nvSpPr>
        <p:spPr>
          <a:xfrm>
            <a:off x="3564000" y="1125360"/>
            <a:ext cx="2108160" cy="85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ff"/>
                </a:solidFill>
                <a:latin typeface="Comic Sans MS"/>
              </a:rPr>
              <a:t>承諾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6166080" y="5140440"/>
            <a:ext cx="171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簽名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日期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1"/>
          <p:cNvSpPr/>
          <p:nvPr/>
        </p:nvSpPr>
        <p:spPr>
          <a:xfrm>
            <a:off x="2296440" y="2073240"/>
            <a:ext cx="45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班）承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 Callout 22"/>
          <p:cNvSpPr/>
          <p:nvPr/>
        </p:nvSpPr>
        <p:spPr>
          <a:xfrm>
            <a:off x="71280" y="4581360"/>
            <a:ext cx="2988000" cy="2016360"/>
          </a:xfrm>
          <a:prstGeom prst="cloudCallout">
            <a:avLst>
              <a:gd name="adj1" fmla="val -28736"/>
              <a:gd name="adj2" fmla="val 5663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omic Sans MS"/>
              </a:rPr>
              <a:t>家長的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3059280" y="2781360"/>
            <a:ext cx="302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687852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STXingkai"/>
                <a:ea typeface="STXingkai"/>
              </a:rPr>
              <a:t>小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6804000" y="5591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TXingkai"/>
                <a:ea typeface="STXingkai"/>
              </a:rPr>
              <a:t>3-8-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875640" y="3500280"/>
            <a:ext cx="144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2195640" y="20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陳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4427640" y="2133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3935520" y="28796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避免使用膠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3564000" y="3500280"/>
            <a:ext cx="25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將膠樽分類回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3564000" y="410364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自備水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0" t="1445" r="1268" b="1705"/>
          <a:stretch/>
        </p:blipFill>
        <p:spPr>
          <a:xfrm>
            <a:off x="-757080" y="-27000"/>
            <a:ext cx="10153440" cy="6912000"/>
          </a:xfrm>
          <a:prstGeom prst="rect">
            <a:avLst/>
          </a:prstGeom>
          <a:ln w="0">
            <a:noFill/>
          </a:ln>
        </p:spPr>
      </p:pic>
      <p:pic>
        <p:nvPicPr>
          <p:cNvPr id="170" name="圖片 7" descr="plastic2.gif"/>
          <p:cNvPicPr/>
          <p:nvPr/>
        </p:nvPicPr>
        <p:blipFill>
          <a:blip r:embed="rId2"/>
          <a:stretch/>
        </p:blipFill>
        <p:spPr>
          <a:xfrm>
            <a:off x="1835280" y="4508640"/>
            <a:ext cx="7100640" cy="2155680"/>
          </a:xfrm>
          <a:prstGeom prst="rect">
            <a:avLst/>
          </a:prstGeom>
          <a:ln w="0">
            <a:noFill/>
          </a:ln>
        </p:spPr>
      </p:pic>
      <p:sp>
        <p:nvSpPr>
          <p:cNvPr id="171" name="圓角矩形圖說文字 6"/>
          <p:cNvSpPr/>
          <p:nvPr/>
        </p:nvSpPr>
        <p:spPr>
          <a:xfrm>
            <a:off x="900000" y="115920"/>
            <a:ext cx="7559640" cy="1512720"/>
          </a:xfrm>
          <a:prstGeom prst="wedgeRoundRectCallout">
            <a:avLst>
              <a:gd name="adj1" fmla="val 27976"/>
              <a:gd name="adj2" fmla="val 23112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到了回收工場，我們便要展開被循環再造的旅程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09B-8B77-456E-B296-6922AA3F357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6" descr="Picture1.png"/>
          <p:cNvPicPr/>
          <p:nvPr/>
        </p:nvPicPr>
        <p:blipFill>
          <a:blip r:embed="rId1"/>
          <a:stretch/>
        </p:blipFill>
        <p:spPr>
          <a:xfrm>
            <a:off x="216000" y="828720"/>
            <a:ext cx="586872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圓角矩形圖說文字 10"/>
          <p:cNvSpPr/>
          <p:nvPr/>
        </p:nvSpPr>
        <p:spPr>
          <a:xfrm>
            <a:off x="4716360" y="189000"/>
            <a:ext cx="4032360" cy="2087640"/>
          </a:xfrm>
          <a:prstGeom prst="wedgeRoundRectCallout">
            <a:avLst>
              <a:gd name="adj1" fmla="val -2250"/>
              <a:gd name="adj2" fmla="val 65115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咦？為何旅程一開始，我們便要跟膠袋小姐們分開？我們都是塑膠家庭的成員啊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7209000" y="1628640"/>
            <a:ext cx="1684080" cy="2808360"/>
            <a:chOff x="7209000" y="1628640"/>
            <a:chExt cx="1684080" cy="2808360"/>
          </a:xfrm>
        </p:grpSpPr>
        <p:pic>
          <p:nvPicPr>
            <p:cNvPr id="177" name="Picture 40" descr=""/>
            <p:cNvPicPr/>
            <p:nvPr/>
          </p:nvPicPr>
          <p:blipFill>
            <a:blip r:embed="rId2"/>
            <a:stretch/>
          </p:blipFill>
          <p:spPr>
            <a:xfrm>
              <a:off x="8176320" y="2305440"/>
              <a:ext cx="716760" cy="21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D:\Temp\Temporary Internet Files\Content.IE5\HDXSWTAK\MC900384172[1].wmf"/>
            <p:cNvPicPr/>
            <p:nvPr/>
          </p:nvPicPr>
          <p:blipFill>
            <a:blip r:embed="rId3"/>
            <a:stretch/>
          </p:blipFill>
          <p:spPr>
            <a:xfrm>
              <a:off x="7209000" y="1628640"/>
              <a:ext cx="1113480" cy="160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圓角矩形圖說文字 8"/>
          <p:cNvSpPr/>
          <p:nvPr/>
        </p:nvSpPr>
        <p:spPr>
          <a:xfrm>
            <a:off x="2916360" y="4724280"/>
            <a:ext cx="4103640" cy="1873440"/>
          </a:xfrm>
          <a:prstGeom prst="wedgeRoundRectCallout">
            <a:avLst>
              <a:gd name="adj1" fmla="val 56995"/>
              <a:gd name="adj2" fmla="val -7076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膠樽仔，不單只我們要跟膠袋小姐們分開，我倆也要分開呀！</a:t>
            </a:r>
            <a:r>
              <a:rPr b="1" lang="zh-TW" sz="25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膠樽仔原因為何嗎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圖片 7" descr="plastic2.gif"/>
          <p:cNvPicPr/>
          <p:nvPr/>
        </p:nvPicPr>
        <p:blipFill>
          <a:blip r:embed="rId4"/>
          <a:srcRect l="10696" t="8808" r="80395" b="11897"/>
          <a:stretch/>
        </p:blipFill>
        <p:spPr>
          <a:xfrm>
            <a:off x="7093080" y="3716280"/>
            <a:ext cx="987120" cy="266076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9"/>
          <p:cNvSpPr/>
          <p:nvPr/>
        </p:nvSpPr>
        <p:spPr>
          <a:xfrm>
            <a:off x="7767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197D-B6FA-41B6-999F-5699A425F72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圖說文字 4"/>
          <p:cNvSpPr/>
          <p:nvPr/>
        </p:nvSpPr>
        <p:spPr>
          <a:xfrm>
            <a:off x="826920" y="260280"/>
            <a:ext cx="7490160" cy="2448000"/>
          </a:xfrm>
          <a:prstGeom prst="wedgeRoundRectCallout">
            <a:avLst>
              <a:gd name="adj1" fmla="val -36763"/>
              <a:gd name="adj2" fmla="val 6764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膠樽仔，我倆要分開，是因為我們身上的編碼不同，也即是說我們身上的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膠料不同</a:t>
            </a: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。把我們分開來回收，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再造出來的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</a:rPr>
              <a:t>產品質量會較穩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932360" y="3075120"/>
            <a:ext cx="3819600" cy="3378240"/>
          </a:xfrm>
          <a:prstGeom prst="rect">
            <a:avLst/>
          </a:prstGeom>
          <a:ln w="0">
            <a:noFill/>
          </a:ln>
        </p:spPr>
      </p:pic>
      <p:sp>
        <p:nvSpPr>
          <p:cNvPr id="185" name="向右箭號 8"/>
          <p:cNvSpPr/>
          <p:nvPr/>
        </p:nvSpPr>
        <p:spPr>
          <a:xfrm>
            <a:off x="3419640" y="4365720"/>
            <a:ext cx="1368360" cy="1224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0" y="6534000"/>
            <a:ext cx="7561440" cy="35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greensense.org.hk/plasticbag/subpage1d.p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圖片 7" descr="plastic2.gif"/>
          <p:cNvPicPr/>
          <p:nvPr/>
        </p:nvPicPr>
        <p:blipFill>
          <a:blip r:embed="rId6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88" name="圖片 10" descr="plastic2.gif"/>
          <p:cNvPicPr/>
          <p:nvPr/>
        </p:nvPicPr>
        <p:blipFill>
          <a:blip r:embed="rId7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7"/>
          <p:cNvSpPr/>
          <p:nvPr/>
        </p:nvSpPr>
        <p:spPr>
          <a:xfrm>
            <a:off x="7740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E98A-DAC1-47EA-AB1C-C253B77FA09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圓角矩形圖說文字 3"/>
          <p:cNvSpPr/>
          <p:nvPr/>
        </p:nvSpPr>
        <p:spPr>
          <a:xfrm>
            <a:off x="755640" y="476280"/>
            <a:ext cx="7848720" cy="2592360"/>
          </a:xfrm>
          <a:prstGeom prst="wedgeRoundRectCallout">
            <a:avLst>
              <a:gd name="adj1" fmla="val -36245"/>
              <a:gd name="adj2" fmla="val 6583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其實除了我、你和膠袋小姐外，還有很多不同類型的塑膠。膠樽仔，你知道我們塑膠家族包含多少個小家庭嗎？而它們的家庭成員又是誰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圖片 4" descr="plastic2.gif"/>
          <p:cNvPicPr/>
          <p:nvPr/>
        </p:nvPicPr>
        <p:blipFill>
          <a:blip r:embed="rId1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95" name="圖片 5" descr="plastic2.gif"/>
          <p:cNvPicPr/>
          <p:nvPr/>
        </p:nvPicPr>
        <p:blipFill>
          <a:blip r:embed="rId2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user\AppData\Local\Microsoft\Windows\Temporary Internet Files\Content.IE5\SGZ0SZTC\MC900355425[1].wmf"/>
          <p:cNvPicPr/>
          <p:nvPr/>
        </p:nvPicPr>
        <p:blipFill>
          <a:blip r:embed="rId3"/>
          <a:stretch/>
        </p:blipFill>
        <p:spPr>
          <a:xfrm>
            <a:off x="3635280" y="2708280"/>
            <a:ext cx="2219400" cy="207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user\AppData\Local\Microsoft\Windows\Temporary Internet Files\Content.IE5\DJIQMK0F\MC900354228[1].wmf"/>
          <p:cNvPicPr/>
          <p:nvPr/>
        </p:nvPicPr>
        <p:blipFill>
          <a:blip r:embed="rId4"/>
          <a:stretch/>
        </p:blipFill>
        <p:spPr>
          <a:xfrm rot="180600">
            <a:off x="6195600" y="2781000"/>
            <a:ext cx="2273400" cy="20160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A3D-FBCC-48B0-A68E-87FA25EC5DA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0" y="6608880"/>
            <a:ext cx="4932360" cy="30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d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表格 13" descr=""/>
          <p:cNvPicPr/>
          <p:nvPr/>
        </p:nvPicPr>
        <p:blipFill>
          <a:blip r:embed="rId5"/>
          <a:stretch/>
        </p:blipFill>
        <p:spPr>
          <a:xfrm>
            <a:off x="249120" y="171360"/>
            <a:ext cx="8645760" cy="650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http://www.greensense.org.hk/plasticbag/images/subpage1_d_1.gif"/>
          <p:cNvPicPr/>
          <p:nvPr/>
        </p:nvPicPr>
        <p:blipFill>
          <a:blip r:embed="rId6"/>
          <a:stretch/>
        </p:blipFill>
        <p:spPr>
          <a:xfrm>
            <a:off x="611280" y="90792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http://www.greensense.org.hk/plasticbag/images/subpage1_d_2.gif"/>
          <p:cNvPicPr/>
          <p:nvPr/>
        </p:nvPicPr>
        <p:blipFill>
          <a:blip r:embed="rId7"/>
          <a:stretch/>
        </p:blipFill>
        <p:spPr>
          <a:xfrm>
            <a:off x="601560" y="1700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http://www.greensense.org.hk/plasticbag/images/subpage1_d_3.gif"/>
          <p:cNvPicPr/>
          <p:nvPr/>
        </p:nvPicPr>
        <p:blipFill>
          <a:blip r:embed="rId8"/>
          <a:stretch/>
        </p:blipFill>
        <p:spPr>
          <a:xfrm>
            <a:off x="611280" y="2492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"/>
          <p:cNvPicPr/>
          <p:nvPr/>
        </p:nvPicPr>
        <p:blipFill>
          <a:blip r:embed="rId9"/>
          <a:stretch/>
        </p:blipFill>
        <p:spPr>
          <a:xfrm>
            <a:off x="611280" y="3355920"/>
            <a:ext cx="1452600" cy="7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"/>
          <p:cNvPicPr/>
          <p:nvPr/>
        </p:nvPicPr>
        <p:blipFill>
          <a:blip r:embed="rId10"/>
          <a:stretch/>
        </p:blipFill>
        <p:spPr>
          <a:xfrm>
            <a:off x="669960" y="4221000"/>
            <a:ext cx="1380960" cy="68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http://www.greensense.org.hk/plasticbag/images/subpage1_d_6.gif"/>
          <p:cNvPicPr/>
          <p:nvPr/>
        </p:nvPicPr>
        <p:blipFill>
          <a:blip r:embed="rId11"/>
          <a:stretch/>
        </p:blipFill>
        <p:spPr>
          <a:xfrm>
            <a:off x="684360" y="4984920"/>
            <a:ext cx="1366560" cy="676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http://www.greensense.org.hk/plasticbag/images/subpage1_d_7.gif"/>
          <p:cNvPicPr/>
          <p:nvPr/>
        </p:nvPicPr>
        <p:blipFill>
          <a:blip r:embed="rId12"/>
          <a:stretch/>
        </p:blipFill>
        <p:spPr>
          <a:xfrm>
            <a:off x="684360" y="5805360"/>
            <a:ext cx="1366560" cy="6796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10"/>
          <p:cNvSpPr/>
          <p:nvPr/>
        </p:nvSpPr>
        <p:spPr>
          <a:xfrm>
            <a:off x="7740720" y="6524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B3B-40C3-4376-8A39-0E356D0A854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6DA-9597-4959-8465-184BB5779AF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800600" cy="3733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79280" y="3654360"/>
            <a:ext cx="1800360" cy="3014640"/>
          </a:xfrm>
          <a:prstGeom prst="rect">
            <a:avLst/>
          </a:prstGeom>
          <a:ln w="0">
            <a:noFill/>
          </a:ln>
        </p:spPr>
      </p:pic>
      <p:sp>
        <p:nvSpPr>
          <p:cNvPr id="215" name="圓角矩形圖說文字 4"/>
          <p:cNvSpPr/>
          <p:nvPr/>
        </p:nvSpPr>
        <p:spPr>
          <a:xfrm>
            <a:off x="324000" y="115920"/>
            <a:ext cx="7632720" cy="2808360"/>
          </a:xfrm>
          <a:prstGeom prst="wedgeRoundRectCallout">
            <a:avLst>
              <a:gd name="adj1" fmla="val -34430"/>
              <a:gd name="adj2" fmla="val 75013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回收姐姐的樣子好像不大高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究竟她們是見到我們不高興，還是見到我們隔鄰的膠樽朋友不高興呢？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我們嗎？你們能找出我們之間的不同之處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2411280" y="3789360"/>
            <a:ext cx="165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圖片 7" descr=""/>
          <p:cNvPicPr/>
          <p:nvPr/>
        </p:nvPicPr>
        <p:blipFill>
          <a:blip r:embed="rId1"/>
          <a:stretch/>
        </p:blipFill>
        <p:spPr>
          <a:xfrm>
            <a:off x="1042920" y="457200"/>
            <a:ext cx="1584360" cy="4700520"/>
          </a:xfrm>
          <a:prstGeom prst="rect">
            <a:avLst/>
          </a:prstGeom>
          <a:ln w="0">
            <a:noFill/>
          </a:ln>
        </p:spPr>
      </p:pic>
      <p:pic>
        <p:nvPicPr>
          <p:cNvPr id="218" name="圖片 8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520640" cy="4535280"/>
          </a:xfrm>
          <a:prstGeom prst="rect">
            <a:avLst/>
          </a:prstGeom>
          <a:ln w="0">
            <a:noFill/>
          </a:ln>
        </p:spPr>
      </p:pic>
      <p:sp>
        <p:nvSpPr>
          <p:cNvPr id="219" name="雲朵形圖說文字 12"/>
          <p:cNvSpPr/>
          <p:nvPr/>
        </p:nvSpPr>
        <p:spPr>
          <a:xfrm>
            <a:off x="2771640" y="115920"/>
            <a:ext cx="3816360" cy="1657440"/>
          </a:xfrm>
          <a:prstGeom prst="cloudCallout">
            <a:avLst>
              <a:gd name="adj1" fmla="val -63763"/>
              <a:gd name="adj2" fmla="val -2653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相比另一袋膠樽，我身上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6810840" y="5157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1390680" y="5219640"/>
            <a:ext cx="8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圖說文字 1 15"/>
          <p:cNvSpPr/>
          <p:nvPr/>
        </p:nvSpPr>
        <p:spPr>
          <a:xfrm>
            <a:off x="3708360" y="206064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-149625"/>
              <a:gd name="adj4" fmla="val -9833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圖說文字 1 16"/>
          <p:cNvSpPr/>
          <p:nvPr/>
        </p:nvSpPr>
        <p:spPr>
          <a:xfrm>
            <a:off x="3708360" y="3141720"/>
            <a:ext cx="1727280" cy="934920"/>
          </a:xfrm>
          <a:prstGeom prst="borderCallout1">
            <a:avLst>
              <a:gd name="adj1" fmla="val 18750"/>
              <a:gd name="adj2" fmla="val -8333"/>
              <a:gd name="adj3" fmla="val -56222"/>
              <a:gd name="adj4" fmla="val -7207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圖說文字 1 17"/>
          <p:cNvSpPr/>
          <p:nvPr/>
        </p:nvSpPr>
        <p:spPr>
          <a:xfrm>
            <a:off x="3708360" y="422100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82273"/>
              <a:gd name="adj4" fmla="val -83439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89B-9D56-414F-8624-EAC31EF005B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圖片 7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82560" cy="4699080"/>
          </a:xfrm>
          <a:prstGeom prst="rect">
            <a:avLst/>
          </a:prstGeom>
          <a:ln w="0">
            <a:noFill/>
          </a:ln>
        </p:spPr>
      </p:pic>
      <p:sp>
        <p:nvSpPr>
          <p:cNvPr id="228" name="矩形 13"/>
          <p:cNvSpPr/>
          <p:nvPr/>
        </p:nvSpPr>
        <p:spPr>
          <a:xfrm>
            <a:off x="4867200" y="35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1268280" y="5013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線圖說文字 1 15"/>
          <p:cNvSpPr/>
          <p:nvPr/>
        </p:nvSpPr>
        <p:spPr>
          <a:xfrm>
            <a:off x="2987640" y="1700280"/>
            <a:ext cx="1440000" cy="649080"/>
          </a:xfrm>
          <a:prstGeom prst="borderCallout1">
            <a:avLst>
              <a:gd name="adj1" fmla="val 18750"/>
              <a:gd name="adj2" fmla="val -8333"/>
              <a:gd name="adj3" fmla="val -203259"/>
              <a:gd name="adj4" fmla="val -10517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線圖說文字 1 16"/>
          <p:cNvSpPr/>
          <p:nvPr/>
        </p:nvSpPr>
        <p:spPr>
          <a:xfrm>
            <a:off x="2987640" y="242100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-38175"/>
              <a:gd name="adj4" fmla="val -793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圖說文字 1 17"/>
          <p:cNvSpPr/>
          <p:nvPr/>
        </p:nvSpPr>
        <p:spPr>
          <a:xfrm>
            <a:off x="2987640" y="314172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240722"/>
              <a:gd name="adj4" fmla="val -98657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圓角矩形圖說文字 10"/>
          <p:cNvSpPr/>
          <p:nvPr/>
        </p:nvSpPr>
        <p:spPr>
          <a:xfrm>
            <a:off x="2627280" y="189000"/>
            <a:ext cx="5473800" cy="1295280"/>
          </a:xfrm>
          <a:prstGeom prst="wedgeRoundRectCallout">
            <a:avLst>
              <a:gd name="adj1" fmla="val -55768"/>
              <a:gd name="adj2" fmla="val -4564"/>
              <a:gd name="adj3" fmla="val 16667"/>
            </a:avLst>
          </a:prstGeom>
          <a:solidFill>
            <a:srgbClr val="ffcc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小朋友，你知道為甚麼回收姐姐會較喜歡他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圖說文字 19"/>
          <p:cNvSpPr/>
          <p:nvPr/>
        </p:nvSpPr>
        <p:spPr>
          <a:xfrm>
            <a:off x="2916360" y="4221000"/>
            <a:ext cx="5976720" cy="1729080"/>
          </a:xfrm>
          <a:prstGeom prst="wedgeRectCallout">
            <a:avLst>
              <a:gd name="adj1" fmla="val -63995"/>
              <a:gd name="adj2" fmla="val -3899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omic Sans MS"/>
              </a:rPr>
              <a:t>小朋友，你以後在回收前，會把我們洗乾淨，並將樽蓋和招紙移除，為地球盡一分力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圖片 8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603360" cy="1800000"/>
          </a:xfrm>
          <a:prstGeom prst="rect">
            <a:avLst/>
          </a:prstGeom>
          <a:ln w="0">
            <a:noFill/>
          </a:ln>
        </p:spPr>
      </p:pic>
      <p:sp>
        <p:nvSpPr>
          <p:cNvPr id="236" name="圓角矩形 11"/>
          <p:cNvSpPr/>
          <p:nvPr/>
        </p:nvSpPr>
        <p:spPr>
          <a:xfrm>
            <a:off x="6084720" y="1628640"/>
            <a:ext cx="25909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減輕工作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圓角矩形 12"/>
          <p:cNvSpPr/>
          <p:nvPr/>
        </p:nvSpPr>
        <p:spPr>
          <a:xfrm>
            <a:off x="6084720" y="242100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回收成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圓角矩形 18"/>
          <p:cNvSpPr/>
          <p:nvPr/>
        </p:nvSpPr>
        <p:spPr>
          <a:xfrm>
            <a:off x="6084720" y="314172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時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60D0-AF29-4261-9A47-80043C31734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7:13Z</dcterms:modified>
  <cp:revision>138</cp:revision>
  <dc:subject/>
  <dc:title>課節二：為什麼要送我到堆填區？ </dc:title>
</cp:coreProperties>
</file>